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A379-DB96-46AF-919F-EF66A90E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8331-00DC-4E30-A187-D7011762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E301-DCEC-41EB-B80B-502F9BF6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E50-558F-4FEE-9DA0-6229302B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7120-02FA-41C7-BD3A-9087A719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B5D6-82B6-4A2C-9617-2E17D36C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FAD-AB75-4E6A-B6D5-5B833E02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AF72-D6CD-470B-AC83-03A21D5B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DBF1-A889-4915-AE84-BB9A312E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2165-4D3F-4FFC-B6F1-8F5EBAD4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66A7-B8AD-4551-A38E-C4B45D41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C78B-AC5A-46C8-846A-6B2B4C3E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6927-CCE1-449A-AB9E-B48E3781376E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ihbarweb.org.tr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dogancio.meb.k12.tr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İNTERNET NEDİ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79280" y="2133720"/>
            <a:ext cx="77058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ilgisayarınızın, dünya üzerindeki birbiriyle bağlantılı milyonlarca bilgisayardan herhangi birisiyle veri, ileti ve dosya alış verişi yapmanıza olanak sağlayan, bilgisayarlar sistemidir. Kısaca dünya üzerindeki bilgisayar ağı olarak tanımlanmakta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79280" y="4581360"/>
            <a:ext cx="8964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ağımızın en güçlü kitle iletişim kaynaklarından biri olan bilgisayarlar ve yaşamımıza birden bire giren internet, bugün bilgilenme, işlem yürütme, haberleşme, eğitim ve eğlence fonksiyonlarıyla hayatımızın ayrılmaz bir parçası olmuştu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ARKADAŞINIZI SİZ BELİRLEYİ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2332080"/>
            <a:ext cx="70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 ortamında sadece tanıdığınız kişilerle sohbet edin ve iletişin kuru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anımadığınız kişilerin internetten yaptığı arkadaşlık tekliflerini redded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 sitelerinde yer alan oyunlara, aktivitelere, yarışmalara katılmadan önce mutlaka ailenize ve öğretmenlerinize danış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te tanıştığınız yabancılarla ailenizin bilgisi olmadan yüz yüze görüşmeyin, buluşmayın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858000" y="2928960"/>
            <a:ext cx="207180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500" spc="-1" strike="noStrike">
                <a:solidFill>
                  <a:srgbClr val="ffffff"/>
                </a:solidFill>
                <a:latin typeface="Arial"/>
              </a:rPr>
              <a:t>KİMLİĞİNİZİ VE KİŞİLİĞİNİZİ KORUYU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3840" y="2000160"/>
            <a:ext cx="61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C Kimlik numaranızı, adresinizi, telefonunuzu, okulunuzun adı, anne, babanızın iş adreslerini ve iş telefonlarını yabancılarla paylaşmay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 üstünden kendi ve ailenizin resimlerini, video görüntülerini yabancılara gönder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Yabancılarla web kamera kullanarak konuşmay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Nasıl ki evimize yabancı birisini alıp, paylaşmıyorsak internetin bu yapmasına müsaade et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6699240" y="2357280"/>
            <a:ext cx="24447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500" spc="-1" strike="noStrike">
                <a:solidFill>
                  <a:srgbClr val="ffffff"/>
                </a:solidFill>
                <a:latin typeface="Arial"/>
              </a:rPr>
              <a:t>HAYIR DEME HAKINIZI VE </a:t>
            </a:r>
            <a:br>
              <a:rPr sz="3500"/>
            </a:br>
            <a:r>
              <a:rPr b="1" lang="tr-TR" sz="3500" spc="-1" strike="noStrike">
                <a:solidFill>
                  <a:srgbClr val="ffffff"/>
                </a:solidFill>
                <a:latin typeface="Arial"/>
              </a:rPr>
              <a:t>ÖZGÜRLÜĞÜNÜZÜ KULLANI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999800"/>
            <a:ext cx="7358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te iken sizi rahatsız eden, görüntü, ses ve yazılara rastladığımızda hemen internet kullanımını bırak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Rahatsız edildiğinizde karşılık vermeyin. Hemen ve hiç çekinmeden ailenize haber ver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7311960" y="2286000"/>
            <a:ext cx="1832040" cy="1785960"/>
          </a:xfrm>
          <a:prstGeom prst="rect">
            <a:avLst/>
          </a:prstGeom>
          <a:ln w="0">
            <a:noFill/>
          </a:ln>
        </p:spPr>
      </p:pic>
      <p:sp>
        <p:nvSpPr>
          <p:cNvPr id="76" name="6 Metin kutusu"/>
          <p:cNvSpPr/>
          <p:nvPr/>
        </p:nvSpPr>
        <p:spPr>
          <a:xfrm>
            <a:off x="214200" y="4286160"/>
            <a:ext cx="871560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Zararlı ve rahatsız edici internet sitelerini </a:t>
            </a:r>
            <a:r>
              <a:rPr b="0" lang="tr-TR" sz="3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hbarweb.org.tr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 adresine yada </a:t>
            </a:r>
            <a:r>
              <a:rPr b="1" lang="tr-TR" sz="2500" spc="-1" strike="noStrike">
                <a:solidFill>
                  <a:srgbClr val="000000"/>
                </a:solidFill>
                <a:latin typeface="Arial"/>
              </a:rPr>
              <a:t>0312-5828282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numaralı telefona hemen şikayet ed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izleri rahatsız eden kişilere cevap vermeyin ya da onları yetkililere şikayet ederek cevaplay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852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CÜZDANINIZI HIRSIZLARDAN KORUY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614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nne ve babanızdan izin almadan yada onlar yanınızda olmadan internetten alışveriş yapmayı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Unutmayın, internette kredi kartı bilgilerini karşı tarafa vermek, cüzdanınızı tanımadığınız bir kişiye emanet etmek gibid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6286680" y="2643120"/>
            <a:ext cx="247644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4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E-POSTALARINIZI KORUY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2071800"/>
            <a:ext cx="59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ifresi kolay e-posta adresleri güvenli değildir. Bu nedenle e-posta adresiniz için güvenli şifreler oluştur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stenmeyen e-postaları önlemek ve gereksiz mesaj trafiği oluşturmamak için internette güvenmediğiniz sitelere kayıt olmayı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072120" y="2500200"/>
            <a:ext cx="267660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292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BİLGİSAYARINIZI VİRÜSLERDEN KORUY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5840" y="2000160"/>
            <a:ext cx="57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Virüslü bilgisayar, vücuduna bulaşıcı mikrop girmiş ve grip hastalığına yakalanmış olan insana benz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Virüslü bilgisayar nezle olmuş insan gibi yorgun ve halsiz çalış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6219720" y="1857240"/>
            <a:ext cx="29242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4292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BİLGİSAYARINIZI VİRÜSLERDEN KORUY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4 Dikdörtgen"/>
          <p:cNvSpPr/>
          <p:nvPr/>
        </p:nvSpPr>
        <p:spPr>
          <a:xfrm>
            <a:off x="357120" y="2052720"/>
            <a:ext cx="83581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Öyle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lgisayarınıza mutlaka antivirüs programı kur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En az haftada bir kez antivirüs programınızı güncelleyin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Güvenli olmayan internet sitelerinden dosya, müzik veya film indirmey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nemli dosyalarınızı mutlaka yedekley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Unutmayı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r hastalığın en etkili ilacı o hastalığa yakalanmamak için önceden önlem almakt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24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BİLGİLERİNİZİ ÇALMAYA GELEN HIRSIZLARA DİKK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840" y="1957320"/>
            <a:ext cx="58294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pam (istenmeyen epostalar) okumamız için başucunuza zarf bırakıp giden maskeli hırsızlara benz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zarfı merak edip açtığınızda ve mektuptaki istekleri yerine getirdiğinizde tüm bilgilerinizi çalmış olabilir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şekilde gelen istenmeyen e-postaları kabul etmeyin ve hiç okumadan sil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stemediğiniz halde size ulaşan e-postaları asla arkadaşlarınıza iletmey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6248520" y="2143080"/>
            <a:ext cx="28954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24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TRUVA ATI BİLGİSAYARINIZI ESİR ALMAS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2071800"/>
            <a:ext cx="72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ruva atı sinsi bir programdı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Kaleyi içten fethetmek için kılık değiştirerek kaleye girmiş askerlere benz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Önce kendisini masum bir müzik, film yada oyun dosyası olarak tanıtır, kabul ettiğinizde bilgisayarınızın yönetimini sinsice ele geçiri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Arial"/>
              </a:rPr>
              <a:t>O hal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Güvenli olmayan bilmediğiniz internet sitelerine gir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öyle sitelerden dosya indir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Haftalık virüs taramanızı ihmal et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6835680" y="1643040"/>
            <a:ext cx="23083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880" y="-71640"/>
            <a:ext cx="90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HIRSIZ VE YANKESİCİLERE DİKK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657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ırsız ve yankesiciler şöyle çalışı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olandırıcılar bir banka yada finans kurumunun internet sitesinin herşeyini tamamen taklit ederek sizi e-posta gönderir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izden banka kart numarası ve şifresi gibi bilgiler ister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öyle e-postaları kesinlikle cevaplamayı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6616800" y="2214720"/>
            <a:ext cx="252720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Günümüzde her binada elektrik, su ve telefon şebekesi ne kadar zorunlu ise Internet bağlantısı da artık bir zorunluluk haline gelmişti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Günün her saatinde her türlü bilgi alışverişi ve iletişimi sağlayan olağanüstü bir buluş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333399"/>
                </a:solidFill>
                <a:latin typeface="Arial"/>
              </a:rPr>
              <a:t>!</a:t>
            </a:r>
            <a:r>
              <a:rPr b="0" i="1" lang="tr-TR" sz="2500" spc="-1" strike="noStrike">
                <a:solidFill>
                  <a:srgbClr val="333399"/>
                </a:solidFill>
                <a:latin typeface="Arial"/>
              </a:rPr>
              <a:t>`küçük bir çakı bıçağı ile çok güzel iş de yapabilirsiniz, bir insanı da öldürebilirsiniz`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Object 4"/>
          <p:cNvGraphicFramePr/>
          <p:nvPr/>
        </p:nvGraphicFramePr>
        <p:xfrm>
          <a:off x="4648320" y="2238480"/>
          <a:ext cx="4038480" cy="32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38480"/>
                    <a:ext cx="4038480" cy="32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4564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2230560" y="2903400"/>
            <a:ext cx="69134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C:\Users\Selim\Desktop\logomuz.jpg"/>
          <p:cNvPicPr/>
          <p:nvPr/>
        </p:nvPicPr>
        <p:blipFill>
          <a:blip r:embed="rId1"/>
          <a:stretch/>
        </p:blipFill>
        <p:spPr>
          <a:xfrm>
            <a:off x="3214800" y="1785960"/>
            <a:ext cx="2928960" cy="2938320"/>
          </a:xfrm>
          <a:prstGeom prst="rect">
            <a:avLst/>
          </a:prstGeom>
          <a:ln w="0">
            <a:noFill/>
          </a:ln>
        </p:spPr>
      </p:pic>
      <p:sp>
        <p:nvSpPr>
          <p:cNvPr id="102" name="6 Metin kutusu"/>
          <p:cNvSpPr/>
          <p:nvPr/>
        </p:nvSpPr>
        <p:spPr>
          <a:xfrm>
            <a:off x="0" y="49291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DOĞANCI İLKÖĞRETİM OKU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ogancio.meb.k12.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elim Baykö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85840" y="1857240"/>
            <a:ext cx="6286320" cy="48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İnternetten yararlanmak sizin temel hakkınızdı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İnternet sizi istediğiniz yere götüren uçan halı gibidi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İnternet dünyaya açılan büyük bir özgürlük penceresidi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İnternet hava gibidir. Değeri ancak yokluğunda anlaşılı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O halde çocuklar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Bilinmeyen yerlere açılan ve sizi davet eden her kapıdan içeri girecek misiniz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6643800" y="214308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49" name="5 Metin kutusu"/>
          <p:cNvSpPr/>
          <p:nvPr/>
        </p:nvSpPr>
        <p:spPr>
          <a:xfrm>
            <a:off x="0" y="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GÜVENLİ İNTERNET KULLANI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14200" y="1957320"/>
            <a:ext cx="578664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abi ki hayır 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ünkü sizin seçme özgürlüğünüz var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Hangi kapının ardında yolculuk yapacağına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Hangi pencereden yıldızları seyredeceğinize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Engin ufaklara doğru hangi halı üzerinde uçacağına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Arial"/>
              </a:rPr>
              <a:t>Siz karar vereceksiniz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6458040" y="2428920"/>
            <a:ext cx="2685960" cy="2685960"/>
          </a:xfrm>
          <a:prstGeom prst="rect">
            <a:avLst/>
          </a:prstGeom>
          <a:ln w="0">
            <a:noFill/>
          </a:ln>
        </p:spPr>
      </p:pic>
      <p:sp>
        <p:nvSpPr>
          <p:cNvPr id="52" name="5 Metin kutusu"/>
          <p:cNvSpPr/>
          <p:nvPr/>
        </p:nvSpPr>
        <p:spPr>
          <a:xfrm>
            <a:off x="285840" y="214200"/>
            <a:ext cx="835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Siz Karar Vereceksin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57120" y="2357280"/>
            <a:ext cx="571500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000000"/>
                </a:solidFill>
                <a:latin typeface="Arial"/>
              </a:rPr>
              <a:t>Öyleyse arkadaşlar öncelikle güvenli bir internet yolculuğu için kullanıcı kaptanın dikkat etmesi gereken konuları birlikte hatırlayalım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6286680" y="2857680"/>
            <a:ext cx="2170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ZAMANI SİZ YÖNETİ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2920" y="2071800"/>
            <a:ext cx="75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Zaman sizin en değerli varlığınız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nternet ve bilgisayar başında kalacağınız zamanı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y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ayarlayı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nternetin zamanınızı çalmasına izin vermey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ışarıda oyun oynamak, sevdiğiniz sporları yapmak, ailenizle beraber vakit geçirmek, derslerinizi yapmak ve kitap okumak için kendinize zaman ayırı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7210440" y="2786040"/>
            <a:ext cx="1933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 Black"/>
              </a:rPr>
              <a:t>VÜCUT SAĞLIĞINIZI KORUY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840" y="2071800"/>
            <a:ext cx="70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ilgisayar karşısında dik oturun; sırtınızı destekleyecek bir sandalye veya oturma alanı seç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ilgisayarınızı aydınlık ortamlarda kullan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ilgisayar önünde uzun süreli hareketsiz kalmay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7000920" y="3214800"/>
            <a:ext cx="18669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YERİ SİZ BELİRLEYİ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117880"/>
            <a:ext cx="582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Anne ve babanıza karşı açık, şeffaf ve dürüst olun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te gezinmek için eviniz ve ailenizle birlikte oturduğunuz odayı tercih ed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i başka yerde kullanıyorsanız bu yerin neresi olduğu hakkında ailenizi bilgilendir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12 yaşında küçükseniz velinizi yanınıza almadan internet kafelere git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357960" y="2357280"/>
            <a:ext cx="262872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3000" spc="-1" strike="noStrike">
                <a:solidFill>
                  <a:srgbClr val="ffffff"/>
                </a:solidFill>
                <a:latin typeface="Arial"/>
              </a:rPr>
              <a:t>GİRECEĞİNİZ  KAPIYI,  </a:t>
            </a:r>
            <a:br>
              <a:rPr sz="3000"/>
            </a:br>
            <a:r>
              <a:rPr b="1" lang="tr-TR" sz="3000" spc="-1" strike="noStrike">
                <a:solidFill>
                  <a:srgbClr val="ffffff"/>
                </a:solidFill>
                <a:latin typeface="Arial"/>
              </a:rPr>
              <a:t> BAKACAĞINIZ PENCEREYİ  İYİ  SEÇİ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20718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Ziyaret edeceğiniz internet sitelerini aileniz yada öğretmenlerinizle birlikte siz belirl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ize teklif edilen internet sitelerini, ailenize ya da öğretmenlerinize sormadan ziyaret et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ize teklif edilenlere değil ailenizin ya da öğretmenlerinizin tavsiyelerine önem ver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Ailenizle ya da öğretmenlerinizle birlikte güvenli olduğunu tespit ettiğiniz internet sitelerini bilgisayarınızın “Sık Kullanılanlar” bölümüne ekl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824520" y="2928960"/>
            <a:ext cx="20005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0:46:43Z</dcterms:created>
  <dc:creator>Exper Computer</dc:creator>
  <dc:description/>
  <dc:language>en-US</dc:language>
  <cp:lastModifiedBy>Selim</cp:lastModifiedBy>
  <dcterms:modified xsi:type="dcterms:W3CDTF">2010-04-05T15:14:34Z</dcterms:modified>
  <cp:revision>16</cp:revision>
  <dc:subject/>
  <dc:title>Slayt 1</dc:title>
</cp:coreProperties>
</file>